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8772-3B04-4A6D-96D8-F3FAF6368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FBE-2702-4935-BC06-06757904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9FF-6A51-4738-B3D9-1E484AE7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D4B-B007-4420-A435-6DED6C3F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98C-7E85-409D-B1BD-15DC9F2A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390-A0B3-4832-A243-5918B88B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AF6-D002-4792-A45A-F23F009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A92-A6F9-4361-8DF9-84C4B47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E65-E23F-447C-8960-36FA3E4B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814-E63E-4CBC-9B2B-CAF15660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AC7-A427-41DD-8570-18869F6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3CF-0E9B-46D6-B432-CA3A8DBF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166-0875-486A-BB58-855D829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433-E3CA-4074-A584-D70D269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EF1A-E50A-4168-80B5-36FF5E56A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niela Tori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yo me llamo Daniel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Yo  vivo en New York. Yo tengo 14 años. Y tengo dos hermanos un hermano y una hermana. Yo soy una niña y me gusto 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02:03Z</dcterms:modified>
  <cp:revision>99</cp:revision>
  <dc:subject/>
  <dc:title>Profile</dc:title>
</cp:coreProperties>
</file>